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448A-AD8A-4B4C-B25A-7DD7056BA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44DE-C429-4260-8B89-B2AFC09D1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D836-C334-43C7-8CDC-AF310F6A2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05CC-DF3E-4B35-A184-78B25E5E6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3308-7726-4E7D-B5C5-38415D554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184C-D5E9-4146-83EF-3DE6716BC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8716-9077-4092-A83E-B0137300A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1D04-DD7C-4433-96CF-EFD1D6A3E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1A3B-E47F-4BF3-BDFB-60F94F439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1AF1-D209-4026-B708-576EDB5C8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C0BE-09FD-4399-B782-D3DF719BD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D1CA-8E09-40F6-852F-CC7DD54C8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4191120"/>
            <a:ext cx="1392120" cy="236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851-0E51-4865-9F45-3E211E0C6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267080" cy="57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cohs.ca/youngworkers/" TargetMode="External"/><Relationship Id="rId2" Type="http://schemas.openxmlformats.org/officeDocument/2006/relationships/hyperlink" Target="http://www.youngworkerquilt.ca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fety in the Work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419720" y="44197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Courses – LH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ological agent is anything living that can cause illness o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, moulds, mildew, fungus, 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hazards involving food, food prep, animals (bites), plants (poison), sewage,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ly stored medical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4012-6FB2-488C-869B-76C8CFAB75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gonomic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s is defined as fitting the task to the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a significant impact on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lighting, workstation layout, shift work, physical deman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0DEE-82E4-45BC-9B1E-39AE255C7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cohs.ca/youngworker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answer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2-3 important statistics identifying the risks of young Canadian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one of the jobs listed on the side panel and outline what you have done or would possibly do and outline the Health and Safety Hazards in poin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ngworkerquilt.ca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read a number of workplace accidents that involved people your age.  In a paragraph or two reflect on the following:  Were there any similarities between accidents, similar causes, how were they personally affected by their accident, can we learn anything from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6B8E-98AA-4FBC-B62E-CBC220885D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workplace ONLY investigates serious accidents, workers and employers are not getting a clear picture of their workplac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NEAR MISSES can show where the workplace needs improv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299B-3307-478F-BEEA-4F700BFF1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600 incidents, there are 30 property damage accidents, 10 minor injuries and 1 serious or major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150C-10E1-42F3-AE02-B8BBAE7C55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Accident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ntrol: Not trained to use the table saw properly and regularly reach ove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auses:  Saw was being used without a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causes:  Employee loses balance while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/Accident:  Employee’s hand comes in contact with the b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:  Employee loses finger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1774-5E62-4970-A1ED-0D3E3DA14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ffects of Acc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do not realize that a workplace injury effects a person’s quality of lif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life, recreational activities and financial comfort can all be negatively impacted by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/depression may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damages and costs (medical, legal, wages, overtim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8046-0221-421C-9642-7979A39E9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Righ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MATTER WHAT JOB RESPONSIBILITIES A WORKER MAY HAVE, ALL WORKERS HAVE THE FOLLOWING 3 FUNDAMENTAL R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Kno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ceive training needed to do the job properly, workplace hazards, safe work procedures, and emergenc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Particip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 JHSC (Joint Health and Safety Committee) – workplaces over 20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Refuse Dangerous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f you believe your workplace is dangerous to yourself or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67B6-A08B-4C60-BBD9-093D2E3AD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sing Dangerou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orkers are unsure about their safety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, be sure to follow these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ncern to supervisor (if solved, then ret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matter to the JHSC (if still not resolved…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 WHSCC and explain the situation.  Return when the situation is no longer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In all cases, stay at work until your shift is finish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EBB4-F686-4484-8C8A-5D1AA9CB99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s (cleaning products, paints, ac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pours and f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(oxygen, propane, 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, combustible, and explosiv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hazards that can enter the body through inhalation, ingestion, absorption, or inj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6AE6-6BE4-455D-9BCD-822616E98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ry (exposure to moving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(hot/c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2090-9F8A-4619-B295-A2F61B0171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10:40Z</dcterms:created>
  <dc:creator>nbdoe</dc:creator>
  <dc:description/>
  <dc:language>en-US</dc:language>
  <cp:lastModifiedBy>nbdoe</cp:lastModifiedBy>
  <dcterms:modified xsi:type="dcterms:W3CDTF">2008-01-30T19:50:15Z</dcterms:modified>
  <cp:revision>5</cp:revision>
  <dc:subject/>
  <dc:title>Safety in the Workplace</dc:title>
</cp:coreProperties>
</file>